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D76-5E47-4E37-BF7B-CA03408E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A59-2112-410A-AD1D-DF21FF57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FC632-0FDA-423E-B3F7-87F358DF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012C2-46E8-4031-B06D-20080607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2C1F0-FE98-4367-92B8-0B6C3D4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8FBD3-2B09-45DC-B60C-B8E670C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16E19-DF9E-40E6-A5CD-7B27055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08A12-4A60-4B2E-8B24-152608D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B2FBE-1C6F-471E-AB88-8F0E0B0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95F03-72E4-48F3-8E97-3DCECF44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3AA53-0956-4DB3-B576-DD0E2DDF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F83C-BC25-4027-ACD6-98E3562B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7BD-F38D-4F03-A2CD-AC2BA44E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D8331-264C-4223-A549-86A6FA8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BBD80-5F46-4C71-8F92-3E8C28E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84E9-E07C-466A-A737-153DDA4C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817D-4877-4DDE-B60B-5A79588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4C5C0-FCCC-4665-BBE2-0FD00AD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F4CFB-1D0A-4F7D-AEAB-78693B8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A6635-B082-4284-B741-E7DB338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BCF7E-829D-41A6-92BE-811B21E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4A1EE-AB62-4409-ADDF-159B3AF9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17242-5C42-4A0F-9CD8-AB71987E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8FA-9FC8-43EA-906A-B9A1E476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DAF10-B325-4B6D-96F8-FB5273C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E6BF-1845-44BC-ADBC-A1685BF3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BDDBB-361C-46BC-8D5F-D7D71E2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42AA8-1882-4DD2-BE80-A0930FC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8292-1AAF-4C2A-B999-2F4302D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490AD-D0EB-4C6E-B2CB-A31E362B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C3361-6035-44DC-AE09-D487487C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06576-166C-4F54-A0EA-13605BB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B0C32-D918-4BE4-B90E-F2125B4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0A44F-F14F-45C7-BD6B-4824E14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D99-9B9D-4FCF-A68A-82B6590C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210E5-30D9-4F73-A045-E4497D7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F1FFD-E586-4BC4-9557-B4074665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4399-2001-48A7-A736-B9DBC984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953B1-638F-456A-BA6E-818A3C65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33599-C902-4E25-B9E3-FD65CC3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79842-6574-4AED-9988-92E8EF01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45982-E22E-401B-A5D8-E719EE6F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9D6B0-8BAA-42F6-90D9-0651599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533D3-B90C-4069-8C33-E135353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A1A39-EB18-4E1B-BE86-C353AF50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1A3-001C-4D9D-9383-E393AF4E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BAB85-34BA-4EF0-ACD9-A33144FA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DECCE-F384-4A45-8A16-84771AA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26938-1DA1-4BB1-9658-351A8E6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1B2BF-9FF2-42F4-B1DB-55A89A76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447C0-9B19-4979-AD6D-B351BFBF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5731D-349C-4E9C-8D8A-4B607EC8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9705B-E91D-43FC-B3A3-E141CD6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9E003-229F-453A-9356-314538AD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71DA2-FEA9-4219-961D-9F030AB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D8550-D7AD-4B87-9338-C845946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33DC-866C-4CEF-B70C-5244C2D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79F88-BE70-4B73-818C-8F0A398F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AB990-5EA9-4B9E-B2B4-83EB5C8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BB600-813D-4286-9662-5487210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51764-E232-4E4D-81E2-C265CF5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6031F-4A64-447A-A980-27A47819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B14DC-BA13-4AD0-A4B2-FB540331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37DBA-A4AE-4F69-9086-21F9EA92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95902-A06A-4B6F-98D7-3CD22FAC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CAF92-AA88-4244-9795-B996186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E2532-BB37-4767-AE3D-454B7A80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6CE-2F2B-42DC-B6C2-E9E17689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F0F07-66DF-43E9-B62E-BE4FAFC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B0BEE-C47D-4A09-A9F1-136EB58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FA3CF-15E4-4040-8AE8-7A2BE37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0D8FC-80D5-4AFF-8374-A39BDF1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BCDB6-2F95-466E-B65B-17FB5F14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856EA-E3F5-43B1-B969-14030A1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91323-C778-4959-9F5C-17EC40B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70728-1AB1-4BFC-82D9-5F64E6CD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315E9-9A21-475B-B3BA-090F6A8B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06CB3-31AD-4B42-B353-39BBFA19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E223-5DFE-47A6-B19B-857608A3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3B236-E052-4D35-A0C3-459B6965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FB7B5-69A7-48FF-A5C6-B629669D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383CE-269F-4ADE-AC40-12AE602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3C771-E43E-4CCE-A7E7-F2DFA4F7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D3D3D-1BD7-435C-A2D2-E06929B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41C2C-BD53-48EA-9001-EA00A91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44597-F13E-4916-B9E3-5A89F5D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3F54A-1E94-4F51-8DAE-F66CFA4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FE03C-C2CA-457D-B561-59F509FF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BC057-F081-4DDC-9073-2E40B2E5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A39-8A9D-41E0-AB51-B95AC5C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09794-4BB3-4D82-B2C7-324F2C11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896AB-B407-4398-A6FD-CE494AF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CBAC0-0E6C-4539-B77B-F2B0821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23576-8687-4ADE-B912-F7CBAF1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0386F-DD0C-4F8E-BA81-880F2FA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D94B5-436B-4136-B8B0-47FA4F5F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9324C-3C4A-492B-BBAD-325210E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C0D5F-637F-4F88-B193-BD7CB61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4089C-F4E4-4B6C-A9A9-978CEC3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37B03-670C-4800-8545-14C4FE7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3AB6-1A4F-4940-B2FE-1D68B61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1B64E-69F1-4C85-B46D-35A47CF1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C49CB-6872-44CB-90AE-CAF1A503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57ED7-C68D-4DEB-95A5-39DA43AB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4C02E-7B68-4A3C-8765-C750F3F5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CB13E-BFBE-43C0-9134-C38667EF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32D18-22A7-45B7-BB23-C6C398D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BEF72-D8BD-4743-B382-CB59487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C8397-447B-4509-8E8C-4E37A07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47D48-90B3-43F8-BD34-4668B07D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222D3-55C0-4097-83BA-7EE47D8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E1E-7CD3-4A88-B660-1D6D78E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BD4C-F66E-4775-BB2B-063C5689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4E4C6-6DE3-479A-9CB9-A4EC57E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C34FC-3F51-4920-91F4-4D8C026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C87ED-19FC-4AA5-9456-BCA3558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F6A93-4A28-41FB-930E-23390953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CB8FE-2C38-487C-8AF8-11C42F48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A9332-7A43-4E20-ADF5-4342D35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73856-9A75-4ABE-AB15-D2770BD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9F087-91B0-4B46-9BB2-3EE76B5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9D5FD-DD3F-46E6-93B0-7E91F11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C5A67-4DEE-4339-90BC-3418F683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7371-0DE0-4F77-9727-9B0CA7D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FCA83-8C1B-48B5-89BA-A0564F8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26A58-A986-43C6-AAE4-D0B3FD9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20C70-BC48-43DB-9E04-FCF9CC8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BDB9D-EBD6-48C7-9F1F-046DEED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9A7CE-F75A-4AF1-9E81-028C7155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CC3C7A-3AEF-4D5F-BAA3-997B26FD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2614C-A431-4326-988B-C0A39626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4FA29-40DA-44B9-BDE5-56E3EBD5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B7A64-62F1-4F83-ADAD-4006F13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8E1F6-7253-4BEA-B540-DDA8000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DDDE-F85A-44FB-9C68-FF7A4E6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35137-3CAB-4B40-85CA-D490EDF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0F0F5-897E-4FF1-98DC-B64EBC4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206AC-FF86-410B-8DE8-29A3BAC5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0D7A8-8C7C-44F6-9A62-E1E877FD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3CE5C7-B6A1-480A-8466-410A11A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FAA93-E079-49D6-BA50-9AD147E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4B912-330A-4F72-89CF-DF23155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BDACB-9FBF-4309-9626-397C28DF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6D1BC-AB05-4A7F-9C9B-F43E00BD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A4914-E73D-4753-BE81-5441A17E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894-AD55-4658-890A-6017214F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BF108-AEFE-4101-9882-0BF98422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FC463-58FD-45E3-AA38-91716754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07A54-8B3D-456D-A66B-63883D28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71003-CFA7-445B-A692-7D63E0C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D0F84-806C-4B28-ADCA-51483041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7B2D2F-ACCF-42D3-A6C0-2CE136C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6F629-BE13-470E-BFBE-9C9CEDE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E0772-2245-4C01-9707-EEF946E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00E9E-DF8E-4A57-BD16-9F7E5A66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5924A-7575-45B2-9AAE-B405D8CF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731-5E30-4E01-B397-FB05A1CD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2302C-C00B-45E9-B50F-3B0E8ED3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A0166-9658-49FF-8B36-7E2CB5C1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239A60-B290-4D60-AACB-5523A5D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26506-A2EF-41FF-B952-5300BA3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00D5D-BCD0-44AB-A97F-9889063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F6AF2-C2F8-42B1-91F0-AE554A1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EBBF4D-4FA7-479D-9037-E0104E4B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481E9-9247-4522-8768-9552051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FC88B-D89B-4B30-9779-02E1D67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611E2-5B5C-4EFB-93B1-978A06F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5595-C1C0-4FEE-BB52-74882AD5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407F9-727D-4776-AE4E-D73A6436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3C2B9-F8F6-46E7-B5F4-A7EC7954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C8020-6C31-4DAA-BD83-F1C51891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0A1C4-67F5-499E-966E-039BEA23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D4372-FC7F-4F3C-95DF-818F5D4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ED911-C3EB-4BF2-B8A2-C7B0746F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E113C-2D46-46B5-9D51-2A36DA04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F83F8A-3FD2-43E5-AE75-F927442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41BA82-4CA8-4752-9350-F3EE8BC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0F3FD-9DCC-4304-A222-18686E1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5010-D749-409C-B682-94CAF8B5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D1FBB-9EA2-44D8-83D4-D8A8060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BB852-2882-4B42-BDE1-D527CFE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60B7D2-C65D-49C8-AEA8-C913D238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17C57-B303-45E0-9A1F-C5EA41C8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A06CA-4D41-4D4C-AAFD-96DE2B69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950E8-AB88-4566-9EC8-6A4101C9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7D509-9C20-4A72-BCAF-DA78873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E0B5D-6887-4949-BD9F-6EB052C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73724-A5D2-4B40-B05A-54B894C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B2FA38-49BE-4872-BB81-228F665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F58C-F396-4F31-9AFF-FFD6CC45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02B1C-ED8C-4B07-AE3E-889207E7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43469-F602-4D23-9164-1DA77FE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8AF8F4-2202-4236-931B-CE5A94C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70042-C28C-4B71-8EE2-95F080F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A92260-BAC7-4588-9DF4-2AABF48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0C581-5EEC-4BF4-8EE3-0489B0CB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131BE-266D-4F26-8BE6-6FEEA19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7760DB-DB49-4863-9507-654D42BD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9ACA2C-5954-4D5E-8D22-D9E5DC7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FA38B-16CE-4C10-B706-118EC45C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87BC-C9F8-4D98-BC23-D1BA334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FB8B0-CEB6-4E53-9776-8AFA031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71516-D986-49EE-90E4-D2AD1096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1B43AB-6590-44D0-A386-8652203F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440C5-3C69-41DB-812E-947F31F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D11C9A-AC4E-4390-A4C6-9CBDF1E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E9EEFA-6877-4369-AADE-41F2C3A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BE800-B1CB-42A6-A919-3FEA33A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CF49E-1886-4CD7-AA72-DE88DD75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780042-C20F-4E19-94AE-F289F973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427F-6B5B-4553-A1B3-ED98B0ED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910-851C-4EF7-99DA-E03C94B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642E-90F7-452F-9645-B301F4EA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9FA8-23DB-42B8-A551-EDA17C6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02B4-7E6F-407A-9EC7-AD68A0B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7F1F-F1DA-4ADC-8569-4C65182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769B-4D80-4871-9AE1-E3D83A5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0A77-333A-44AD-893B-116126A9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A5FE-AC5E-449B-A94D-A6BCBED1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925F-EB06-4812-BE12-42CAA0DF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59DF-3A55-4E4C-A309-9A9407A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4D59-C99D-49E8-9D3E-177B17C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276-A6B4-483A-AA1A-5E730692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315D-7951-4167-A78E-AE90EB3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5EBA-90F1-45C7-9C81-C2C0DF6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8B32-174B-4239-9638-E77F8F2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FEEB-655D-40C5-9DD0-E92C85D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A150-88BF-47E3-93D1-C449DCF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1CF8-366B-454A-889D-91EC3003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88F0-CEA5-417F-96E6-72D88F2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E3C1-873F-4475-BEC8-6263187F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A214-2DA9-453E-80DA-59AFC8E3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10D7-1221-4C14-B53A-F33CFCDA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DDA-8D8F-4D78-8547-708CAE93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B231-59E5-4ED5-A088-4875CDC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76F8-7BDC-4369-A026-A3680DF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0D1C-B24B-4EC6-9EF6-E0602A0F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1C29-49F7-4A4D-AD38-D7FD615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E2AF-563F-4CCF-AF21-88DBDEC5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645F-A068-4F10-AF2D-2712583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A23B-63DF-40F7-B753-A56BB61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24CC-D32B-4626-8324-B51AC2D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D53A-535A-4C06-8A8B-709A7999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BFAC-9D55-4677-850F-3C8FFBF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C5E-A16E-4FBE-A08F-415AA426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A906-2F2F-4F46-B88F-8D687151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7EFC-B0A9-4C0C-AB2E-D3F4875E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5265-B088-468F-8D14-39A2357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CDDA-1440-4162-A501-C69DDF6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4E43-2A34-46AF-8132-A1034B3B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3764-5DC4-4B85-8778-043A2B1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D4EC-A06D-4F5F-BED9-A52F3C6B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F1960-D21A-4E6B-B489-9C6586D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BF8A-9B5F-4FB7-BCE5-1719193F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F80D3-8344-46DA-9663-FFEAC57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3E3-BE18-4AC1-9843-2C66D2A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245B-0A47-4D89-878A-05A17A56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7E28-DA27-47BC-8751-2BCC249B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8931-3EE6-4086-A72C-299B40A2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2267-4E1C-4522-98CB-C5AB410F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7738C-2FEC-4D5F-AF98-7B8EDBD6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31A3-3DAA-4B20-834F-0326FCCA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5696-7507-4610-8CAB-438E01A5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78BA-79D5-4DED-9BBF-052C0F7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0DB6-61C5-4602-BB12-E0627DC4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E70A-098D-4EDD-B7F4-004DBE1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FF3-6AE8-47E1-802C-6994750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8154-2AA7-45BD-B834-55E6A62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B78E-AC6F-4A9D-BB86-D95FD0C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0B4FD-8683-402D-9FBF-8CD1F8A5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7A15-C6FE-4F0C-A906-5BC7F9A9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E963-BAC2-4206-9191-44D2E725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C0B98-DC41-4FBD-A93F-9E257BF0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FB4A4-7B25-40A3-8D42-289EC4E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BF70-D1A7-492A-94CE-996253A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040A-7718-472F-9658-D58A16D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2DAEC-CA4D-437B-9187-B214ACC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430-CF75-4A36-9000-2B7E8C8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0060C-C754-4E25-98FE-B61BF8D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45CB-1FE8-415E-AE49-EBF57D6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211C0-6ED4-4369-8E1D-F3712D8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6BE5-254E-4635-8B40-BBEBEDF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6279-BA36-4AE4-B764-8BB5E573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C0EFC-13AC-4EFB-B18D-D42FBB9E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88D0-C500-4A14-A99F-ED8D9303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090E0-9FEB-41F4-8EE9-D19F3D4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71E70-1270-4EC4-9C4C-DEED358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CB42-2B68-4803-9CC6-E43B58A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909-3F3F-42F6-AF13-868B0836C4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D414-4D5C-4C4F-8137-038B814EB0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D58-A2BD-4C86-ADB7-51679DF168A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218D-DD40-4ED3-BDB8-F3ABC90065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3FD-F8BE-4C50-B90F-2EE14848D00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156-F66D-4CF3-9470-9C6002AB79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A2A-8F15-4545-90CD-A031222961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8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8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234-6950-4186-8BB7-B2A0F72CAE2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3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3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5E82-80C8-4560-8143-79B0E1F0A41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F29E-1D9D-47D6-BCA6-48F3AD5D25D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3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3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249-5162-4422-A508-D316E5960D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3974-8E98-4D26-95B5-0980B98E70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7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8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CAB-6ED9-43C3-9278-C90FE3C7760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ECBA-441C-40CF-930C-1A21AE0ED7B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1765-CFC2-427F-9975-58D825164D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2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EE0-50C4-48E2-99CE-1EF7354FCE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F54-1F6C-4F4E-9B46-61DC7E1E12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E600-A0FF-44AE-B790-33C163CFF8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DFD1-F024-4788-B385-7051B7D6E45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7F59-3DC1-4134-8F4A-2639230533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529D-6F40-4C08-B0A5-640D800D3E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828-4581-45BF-B7A2-65F423989A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556-1859-43D6-B8AD-2B2AB7A023A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1621-1D5B-45DA-98F5-E4CAB10468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ps.aw.com/bc_martini_eap_4/0,11295,2680298-content,00.html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ерматогенe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ја сперматогенезе 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mK9_6HQbx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енез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73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и проце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човека траје око 10 недељ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убертета у семеном каналићу тести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азе се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толијеве</a:t>
            </a:r>
            <a:r>
              <a:rPr b="0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инативн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6894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ечни пресек кроз ткиво тестис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20" name="Picture 3" descr="tea44he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MREPL08"/>
          <p:cNvPicPr/>
          <p:nvPr/>
        </p:nvPicPr>
        <p:blipFill>
          <a:blip r:embed="rId2"/>
          <a:stretch/>
        </p:blipFill>
        <p:spPr>
          <a:xfrm>
            <a:off x="5811840" y="476280"/>
            <a:ext cx="3332160" cy="21906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" descr="biol_03_img0271"/>
          <p:cNvPicPr/>
          <p:nvPr/>
        </p:nvPicPr>
        <p:blipFill>
          <a:blip r:embed="rId3"/>
          <a:stretch/>
        </p:blipFill>
        <p:spPr>
          <a:xfrm>
            <a:off x="179280" y="2133720"/>
            <a:ext cx="2152800" cy="32274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6"/>
          <p:cNvSpPr/>
          <p:nvPr/>
        </p:nvSpPr>
        <p:spPr>
          <a:xfrm>
            <a:off x="271440" y="5300640"/>
            <a:ext cx="1187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мени канал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"/>
          <p:cNvSpPr/>
          <p:nvPr/>
        </p:nvSpPr>
        <p:spPr>
          <a:xfrm>
            <a:off x="3852720" y="2133720"/>
            <a:ext cx="172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е сперматоц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"/>
          <p:cNvSpPr/>
          <p:nvPr/>
        </p:nvSpPr>
        <p:spPr>
          <a:xfrm>
            <a:off x="3635280" y="342900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толијеве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9"/>
          <p:cNvSpPr/>
          <p:nvPr/>
        </p:nvSpPr>
        <p:spPr>
          <a:xfrm>
            <a:off x="4937040" y="3645000"/>
            <a:ext cx="12747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0"/>
          <p:cNvSpPr/>
          <p:nvPr/>
        </p:nvSpPr>
        <p:spPr>
          <a:xfrm>
            <a:off x="1763640" y="4221000"/>
            <a:ext cx="1727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1"/>
          <p:cNvSpPr/>
          <p:nvPr/>
        </p:nvSpPr>
        <p:spPr>
          <a:xfrm>
            <a:off x="3079800" y="6021360"/>
            <a:ext cx="1187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тки миши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2"/>
          <p:cNvSpPr/>
          <p:nvPr/>
        </p:nvSpPr>
        <p:spPr>
          <a:xfrm>
            <a:off x="6819840" y="2708280"/>
            <a:ext cx="20732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у лумену сем. канали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spermatogenesis"/>
          <p:cNvPicPr/>
          <p:nvPr/>
        </p:nvPicPr>
        <p:blipFill>
          <a:blip r:embed="rId1"/>
          <a:stretch/>
        </p:blipFill>
        <p:spPr>
          <a:xfrm>
            <a:off x="3546360" y="260280"/>
            <a:ext cx="5256360" cy="6335640"/>
          </a:xfrm>
          <a:prstGeom prst="rect">
            <a:avLst/>
          </a:prstGeom>
          <a:ln w="0">
            <a:noFill/>
          </a:ln>
        </p:spPr>
      </p:pic>
      <p:sp>
        <p:nvSpPr>
          <p:cNvPr id="1131" name="Text Box 3"/>
          <p:cNvSpPr/>
          <p:nvPr/>
        </p:nvSpPr>
        <p:spPr>
          <a:xfrm>
            <a:off x="3708360" y="476280"/>
            <a:ext cx="165564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гониј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6659640" y="476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3635280" y="1628640"/>
            <a:ext cx="2089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марна спматоцита 2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6659640" y="1916280"/>
            <a:ext cx="1297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в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7667640" y="3141720"/>
            <a:ext cx="113508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руга мејотичка део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3635280" y="2708280"/>
            <a:ext cx="1440000" cy="733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кундарна сперматоцит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3259080" y="4005360"/>
            <a:ext cx="1297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0"/>
          <p:cNvSpPr/>
          <p:nvPr/>
        </p:nvSpPr>
        <p:spPr>
          <a:xfrm>
            <a:off x="2987640" y="5157720"/>
            <a:ext cx="156672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1"/>
          <p:cNvSpPr/>
          <p:nvPr/>
        </p:nvSpPr>
        <p:spPr>
          <a:xfrm>
            <a:off x="7956720" y="515772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2"/>
          <p:cNvSpPr/>
          <p:nvPr/>
        </p:nvSpPr>
        <p:spPr>
          <a:xfrm>
            <a:off x="7885080" y="558972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3"/>
          <p:cNvSpPr/>
          <p:nvPr/>
        </p:nvSpPr>
        <p:spPr>
          <a:xfrm>
            <a:off x="7812000" y="587700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4"/>
          <p:cNvSpPr/>
          <p:nvPr/>
        </p:nvSpPr>
        <p:spPr>
          <a:xfrm>
            <a:off x="6983280" y="981000"/>
            <a:ext cx="216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ст и диференциј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36352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дијал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гоније   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е сперматоците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ндарне сперматоци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ид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зоиди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45920" y="163440"/>
            <a:ext cx="52563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иогенез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6" name="Picture 4" descr="200402260004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543280"/>
          </a:xfrm>
          <a:prstGeom prst="rect">
            <a:avLst/>
          </a:prstGeom>
          <a:ln w="0">
            <a:noFill/>
          </a:ln>
        </p:spPr>
      </p:pic>
      <p:sp>
        <p:nvSpPr>
          <p:cNvPr id="1147" name="Text Box 5"/>
          <p:cNvSpPr/>
          <p:nvPr/>
        </p:nvSpPr>
        <p:spPr>
          <a:xfrm>
            <a:off x="1116000" y="1125360"/>
            <a:ext cx="99072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лџијев апа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116000" y="15573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"/>
          <p:cNvSpPr/>
          <p:nvPr/>
        </p:nvSpPr>
        <p:spPr>
          <a:xfrm>
            <a:off x="2050920" y="292428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ио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684360" y="292428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"/>
          <p:cNvSpPr/>
          <p:nvPr/>
        </p:nvSpPr>
        <p:spPr>
          <a:xfrm>
            <a:off x="3203640" y="2924280"/>
            <a:ext cx="122400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кротуб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10"/>
          <p:cNvSpPr/>
          <p:nvPr/>
        </p:nvSpPr>
        <p:spPr>
          <a:xfrm>
            <a:off x="3348000" y="321300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11"/>
          <p:cNvSpPr/>
          <p:nvPr/>
        </p:nvSpPr>
        <p:spPr>
          <a:xfrm>
            <a:off x="4500720" y="1355760"/>
            <a:ext cx="1223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тохондр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12"/>
          <p:cNvSpPr/>
          <p:nvPr/>
        </p:nvSpPr>
        <p:spPr>
          <a:xfrm>
            <a:off x="6043680" y="18493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укле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3"/>
          <p:cNvSpPr/>
          <p:nvPr/>
        </p:nvSpPr>
        <p:spPr>
          <a:xfrm>
            <a:off x="6043680" y="157320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кро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5724360" y="3500280"/>
            <a:ext cx="1133640" cy="4590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дбацивање цитоплаз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5"/>
          <p:cNvSpPr/>
          <p:nvPr/>
        </p:nvSpPr>
        <p:spPr>
          <a:xfrm>
            <a:off x="6200640" y="494676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7236000" y="3141720"/>
            <a:ext cx="99036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ра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7"/>
          <p:cNvSpPr/>
          <p:nvPr/>
        </p:nvSpPr>
        <p:spPr>
          <a:xfrm>
            <a:off x="8388360" y="3141720"/>
            <a:ext cx="990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л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8"/>
          <p:cNvSpPr/>
          <p:nvPr/>
        </p:nvSpPr>
        <p:spPr>
          <a:xfrm>
            <a:off x="0" y="765000"/>
            <a:ext cx="172872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и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9"/>
          <p:cNvSpPr/>
          <p:nvPr/>
        </p:nvSpPr>
        <p:spPr>
          <a:xfrm>
            <a:off x="6948360" y="6381720"/>
            <a:ext cx="18716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ерматозо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163" name="Picture 2" descr="C:\Users\Bilja\Desktop\gradja spermatoyoida 3.png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сперматозоид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eтљив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љавањe сперматозоида и способност опло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а регулација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бертет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и режањ хипофи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S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ује на сперматогенез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H</a:t>
            </a:r>
            <a:r>
              <a:rPr b="0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редно) - утиче на продукцију тестостерона (Лејдигове ћелије у тестис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09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 сперматогенез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427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ан број: од 2,25 до 544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 120 милона/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роју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ђи сперматозо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0" name="Picture 2" descr="C:\Users\Bilja\Desktop\anomalije spermatoyoida.png"/>
          <p:cNvPicPr/>
          <p:nvPr/>
        </p:nvPicPr>
        <p:blipFill>
          <a:blip r:embed="rId1"/>
          <a:stretch/>
        </p:blipFill>
        <p:spPr>
          <a:xfrm>
            <a:off x="971640" y="3781440"/>
            <a:ext cx="6697440" cy="29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18-11-09T06:54:41Z</dcterms:modified>
  <cp:revision>231</cp:revision>
  <dc:subject/>
  <dc:title>MUTACIJE GENA</dc:title>
</cp:coreProperties>
</file>